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15365-C234-4E75-863B-CF9B68AEF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50E18-2F2C-411C-AB5F-EE723E304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6B01C-37CD-45F3-846E-C272FD026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F1038-CDA4-41A7-8832-A5FDD493B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B50F7-66FB-4CA7-AB4B-C8CAE2BA3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8E97A-8B3F-4230-A513-31744C164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CB612-593D-4D07-9869-7AA636A5D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1D66E-3879-427F-960E-DF460E0FE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82936-F1FC-4A4B-9BF7-6B51ED954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B4B35-49E9-4595-96B1-19D698004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BA248-515E-451C-83DB-CBD6441B0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55AD4-B034-4722-B232-50B9C6B19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ABF2D-1D33-4677-94F3-30DDEE7795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fc.sad57.k12.me.us/~Abigail_Asciola/00598B79-00870BAD.0/bloodyeyes.jpg&amp;imgrefurl=http://fc.sad57.k12.me.us/~Abigail_Asciola/Oedipus%2520the%2520King%2520Web%2520Page&amp;usg=__efCFWlUMI1CnmwMR1uzmdQty1mg=&amp;h=446&amp;w=650&amp;sz=213&amp;hl=en&amp;start=1&amp;um=1&amp;itbs=1&amp;tbnid=hHrT0TEeY_8ESM:&amp;tbnh=94&amp;tbnw=137&amp;prev=/images%3Fq%3Doedipus%2Brex%26hl%3Den%26safe%3Dstrict%26sa%3DN%26um%3D1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images.google.com/imgres?imgurl=http://www.deviantart.com/download/139255696/Oedipus_Rex_by_RYE_BREAD.jpg&amp;imgrefurl=http://rye-bread.deviantart.com/art/Oedipus-Rex-139255696&amp;usg=__olso9or5aJG_BGeCXnKmmhzxH_8=&amp;h=1020&amp;w=680&amp;sz=500&amp;hl=en&amp;start=39&amp;um=1&amp;itbs=1&amp;tbnid=oWkbg2za80AkcM:&amp;tbnh=150&amp;tbnw=100&amp;prev=/images%3Fq%3Doedipus%2Brex%26ndsp%3D20%26hl%3Den%26safe%3Dstrict%26sa%3DN%26start%3D20%26um%3D1" TargetMode="External"/><Relationship Id="rId4" Type="http://schemas.openxmlformats.org/officeDocument/2006/relationships/image" Target="../media/image2.jpeg"/><Relationship Id="rId5" Type="http://schemas.openxmlformats.org/officeDocument/2006/relationships/hyperlink" Target="http://images.google.com/imgres?imgurl=http://anyworld.files.wordpress.com/2007/04/oedipus.jpg&amp;imgrefurl=http://anyworld.wordpress.com/2007/04/17/im-a-bookkeepers-son-i-dont-wanna-hurt-no-one/&amp;usg=__RFyMTLdzjvun3sRCPs0QeNHjprw=&amp;h=869&amp;w=483&amp;sz=35&amp;hl=en&amp;start=40&amp;um=1&amp;itbs=1&amp;tbnid=7dqP18K-6XJIwM:&amp;tbnh=145&amp;tbnw=81&amp;prev=/images%3Fq%3Doedipus%2Brex%26ndsp%3D20%26hl%3Den%26safe%3Dstrict%26sa%3DN%26start%3D20%26um%3D1" TargetMode="External"/><Relationship Id="rId6" Type="http://schemas.openxmlformats.org/officeDocument/2006/relationships/image" Target="../media/image3.jpeg"/><Relationship Id="rId7" Type="http://schemas.openxmlformats.org/officeDocument/2006/relationships/hyperlink" Target="http://images.google.com/imgres?imgurl=http://img.amazon.ca/images/I/51AZ8KVW0VL._SL500_AA240_.jpg&amp;imgrefurl=http://www.amazon.ca/Oedipus-Rex-Widescreen-Douglas-Campbell/dp/B00006674E&amp;usg=__7BqAuM__wSWKroFdmKSnC1Dey4U=&amp;h=240&amp;w=240&amp;sz=17&amp;hl=en&amp;start=33&amp;um=1&amp;itbs=1&amp;tbnid=Ps5vn8HlG26K2M:&amp;tbnh=110&amp;tbnw=110&amp;prev=/images%3Fq%3Doedipus%2Brex%26ndsp%3D20%26hl%3Den%26safe%3Dstrict%26sa%3DN%26start%3D20%26um%3D1" TargetMode="External"/><Relationship Id="rId8" Type="http://schemas.openxmlformats.org/officeDocument/2006/relationships/image" Target="../media/image4.jpeg"/><Relationship Id="rId9" Type="http://schemas.openxmlformats.org/officeDocument/2006/relationships/hyperlink" Target="http://images.google.com/imgres?imgurl=http://www.moviegoods.com/Assets/product_images/1020/322277.1020.A.jpg&amp;imgrefurl=http://www.moviegoods.com/movie_poster/oedipus_rex_1957.htm&amp;usg=__Hz0fkxqc_x4MPx9iQ7f4NqZlzOY=&amp;h=454&amp;w=580&amp;sz=53&amp;hl=en&amp;start=26&amp;um=1&amp;itbs=1&amp;tbnid=NFz4m5cNQTgb8M:&amp;tbnh=105&amp;tbnw=134&amp;prev=/images%3Fq%3Doedipus%2Brex%26ndsp%3D20%26hl%3Den%26safe%3Dstrict%26sa%3DN%26start%3D20%26um%3D1" TargetMode="External"/><Relationship Id="rId10" Type="http://schemas.openxmlformats.org/officeDocument/2006/relationships/image" Target="../media/image5.jpeg"/><Relationship Id="rId1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classicalwainui.files.wordpress.com/2009/05/oedipus.jpg&amp;imgrefurl=http://classicalwainui.wordpress.com/2009/05/03/oedipus-rex-prologos/&amp;usg=__XtprLL7Hnbt97Th34ZEIGrxLPMk=&amp;h=525&amp;w=400&amp;sz=26&amp;hl=en&amp;start=44&amp;um=1&amp;itbs=1&amp;tbnid=IciNEBAclp0rWM:&amp;tbnh=132&amp;tbnw=101&amp;prev=/images%3Fq%3Doedipus%2Brex%26ndsp%3D20%26hl%3Den%26safe%3Dstrict%26sa%3DN%26start%3D40%26um%3D1" TargetMode="External"/><Relationship Id="rId2" Type="http://schemas.openxmlformats.org/officeDocument/2006/relationships/image" Target="../media/image6.jpeg"/><Relationship Id="rId3" Type="http://schemas.openxmlformats.org/officeDocument/2006/relationships/hyperlink" Target="http://images.google.com/imgres?imgurl=http://www.newarttheatre.com/images/post_OedipusRex_lg.jpg&amp;imgrefurl=http://www.newarttheatre.com/abo_pastproductions.asp&amp;usg=__rwjD5kP60k7XX4NqfZcbxfyVpR4=&amp;h=542&amp;w=350&amp;sz=57&amp;hl=en&amp;start=54&amp;um=1&amp;itbs=1&amp;tbnid=Xp-wwwQGkHF7KM:&amp;tbnh=132&amp;tbnw=85&amp;prev=/images%3Fq%3Doedipus%2Brex%26ndsp%3D20%26hl%3Den%26safe%3Dstrict%26sa%3DN%26start%3D40%26um%3D1" TargetMode="External"/><Relationship Id="rId4" Type="http://schemas.openxmlformats.org/officeDocument/2006/relationships/image" Target="../media/image7.jpeg"/><Relationship Id="rId5" Type="http://schemas.openxmlformats.org/officeDocument/2006/relationships/hyperlink" Target="http://images.google.com/imgres?imgurl=http://upload.wikimedia.org/wikipedia/commons/3/30/Oedipus_And_The_Sphinx_-_Project_Gutenberg_eText_14994.png&amp;imgrefurl=http://neutralpoliticalanxiety.blogspot.com/2008_10_01_archive.html&amp;usg=__zL8ximCvyviCnSJxS3Ko3VQYOmQ=&amp;h=314&amp;w=480&amp;sz=16&amp;hl=en&amp;start=58&amp;um=1&amp;itbs=1&amp;tbnid=sOlKJI8YPXdJoM:&amp;tbnh=84&amp;tbnw=129&amp;prev=/images%3Fq%3Doedipus%2Brex%26ndsp%3D20%26hl%3Den%26safe%3Dstrict%26sa%3DN%26start%3D40%26um%3D1" TargetMode="External"/><Relationship Id="rId6" Type="http://schemas.openxmlformats.org/officeDocument/2006/relationships/image" Target="../media/image8.jpeg"/><Relationship Id="rId7" Type="http://schemas.openxmlformats.org/officeDocument/2006/relationships/hyperlink" Target="http://images.google.com/imgres?imgurl=http://static.guim.co.uk/Guardian/culture/gallery/2008/oct/14/theatre/edinburgh-1394.jpg&amp;imgrefurl=http://www.guardian.co.uk/stage/gallery/2008/oct/15/oedipus-national-theatre-ralph-fiennes%3Fpicture%3D338596305&amp;usg=__erQNCxAqf-mrmch5vDpbYHA8Lxk=&amp;h=450&amp;w=301&amp;sz=40&amp;hl=en&amp;start=60&amp;um=1&amp;itbs=1&amp;tbnid=JJaNXMRgAOBsSM:&amp;tbnh=127&amp;tbnw=85&amp;prev=/images%3Fq%3Doedipus%2Brex%26ndsp%3D20%26hl%3Den%26safe%3Dstrict%26sa%3DN%26start%3D40%26um%3D1" TargetMode="External"/><Relationship Id="rId8" Type="http://schemas.openxmlformats.org/officeDocument/2006/relationships/image" Target="../media/image9.jpeg"/><Relationship Id="rId9" Type="http://schemas.openxmlformats.org/officeDocument/2006/relationships/hyperlink" Target="http://images.google.com/imgres?imgurl=http://img.amazon.ca/images/I/51rF63dQNcL._SL500_AA240_.jpg&amp;imgrefurl=http://www.amazon.ca/Oedipus-Rex-Philip-Langridge/dp/B00092ZAOK&amp;usg=__xu-bxdYjSa_6pBzIOflbYgf7yZw=&amp;h=240&amp;w=240&amp;sz=15&amp;hl=en&amp;start=61&amp;um=1&amp;itbs=1&amp;tbnid=a9KKqgAFfS6dUM:&amp;tbnh=110&amp;tbnw=110&amp;prev=/images%3Fq%3Doedipus%2Brex%26ndsp%3D20%26hl%3Den%26safe%3Dstrict%26sa%3DN%26start%3D60%26um%3D1" TargetMode="External"/><Relationship Id="rId10" Type="http://schemas.openxmlformats.org/officeDocument/2006/relationships/image" Target="../media/image10.jpeg"/><Relationship Id="rId1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bp3.blogger.com/_KTM0xOwrLT0/RpuasDmCdgI/AAAAAAAAEOU/lXq99F8AKfM/s320/oedipus.gif&amp;imgrefurl=http://readingcatalogue.blogspot.com/2007_07_01_archive.html&amp;usg=__fnpjbYqx5-p65HTxtSmX_HvRcOw=&amp;h=320&amp;w=319&amp;sz=217&amp;hl=en&amp;start=65&amp;um=1&amp;itbs=1&amp;tbnid=aOnXOiWBQMTblM:&amp;tbnh=118&amp;tbnw=118&amp;prev=/images%3Fq%3Doedipus%2Brex%26ndsp%3D20%26hl%3Den%26safe%3Dstrict%26sa%3DN%26start%3D60%26um%3D1" TargetMode="External"/><Relationship Id="rId2" Type="http://schemas.openxmlformats.org/officeDocument/2006/relationships/image" Target="../media/image11.jpeg"/><Relationship Id="rId3" Type="http://schemas.openxmlformats.org/officeDocument/2006/relationships/hyperlink" Target="http://images.google.com/imgres?imgurl=http://www.classicalarchives.com/images/coverart/3/5/5/1/723723605221_300.jpg&amp;imgrefurl=http://www.classicalarchives.com/album/723723605221.html&amp;usg=__GpBAYT6IM65HeSNSebE84fckQFI=&amp;h=300&amp;w=300&amp;sz=21&amp;hl=en&amp;start=64&amp;um=1&amp;itbs=1&amp;tbnid=jPJx8SW_vatkFM:&amp;tbnh=116&amp;tbnw=116&amp;prev=/images%3Fq%3Doedipus%2Brex%26ndsp%3D20%26hl%3Den%26safe%3Dstrict%26sa%3DN%26start%3D60%26um%3D1" TargetMode="External"/><Relationship Id="rId4" Type="http://schemas.openxmlformats.org/officeDocument/2006/relationships/image" Target="../media/image12.jpeg"/><Relationship Id="rId5" Type="http://schemas.openxmlformats.org/officeDocument/2006/relationships/hyperlink" Target="http://images.google.com/imgres?imgurl=http://www.eaglerockstage.com/images/oedipus/OR_Poster_large.jpg&amp;imgrefurl=http://www.eaglerockstage.com/&amp;usg=__9KeZEFW4ne1k-6TzneXV4kjLwhg=&amp;h=647&amp;w=485&amp;sz=419&amp;hl=en&amp;start=79&amp;um=1&amp;itbs=1&amp;tbnid=-Ftap34901MOkM:&amp;tbnh=137&amp;tbnw=103&amp;prev=/images%3Fq%3Doedipus%2Brex%26ndsp%3D20%26hl%3Den%26safe%3Dstrict%26sa%3DN%26start%3D60%26um%3D1" TargetMode="External"/><Relationship Id="rId6" Type="http://schemas.openxmlformats.org/officeDocument/2006/relationships/image" Target="../media/image13.jpeg"/><Relationship Id="rId7" Type="http://schemas.openxmlformats.org/officeDocument/2006/relationships/hyperlink" Target="http://images.google.com/imgres?imgurl=http://lovemoderately.files.wordpress.com/2008/02/14.jpg&amp;imgrefurl=http://lovemoderately.wordpress.com/2008/02/&amp;usg=__HG1dgfLQXIjVGdNQ0ZzAP7IOECg=&amp;h=530&amp;w=400&amp;sz=55&amp;hl=en&amp;start=78&amp;um=1&amp;itbs=1&amp;tbnid=BOUnU9ae0MUk7M:&amp;tbnh=132&amp;tbnw=100&amp;prev=/images%3Fq%3Doedipus%2Brex%26ndsp%3D20%26hl%3Den%26safe%3Dstrict%26sa%3DN%26start%3D60%26um%3D1" TargetMode="External"/><Relationship Id="rId8" Type="http://schemas.openxmlformats.org/officeDocument/2006/relationships/image" Target="../media/image14.jpeg"/><Relationship Id="rId9" Type="http://schemas.openxmlformats.org/officeDocument/2006/relationships/image" Target="../media/image15.jpeg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ipfhHrT0TEeY_8ESM: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29628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 rot="20218200">
            <a:off x="240840" y="498600"/>
            <a:ext cx="2335320" cy="22860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 rot="1489800">
            <a:off x="6629040" y="304920"/>
            <a:ext cx="2089080" cy="37386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 rot="18551400">
            <a:off x="772920" y="4438440"/>
            <a:ext cx="2057400" cy="20574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 rot="1275000">
            <a:off x="6248160" y="4572000"/>
            <a:ext cx="271764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 rot="19734600">
            <a:off x="685800" y="228240"/>
            <a:ext cx="2892600" cy="26971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 rot="808800">
            <a:off x="6298920" y="393480"/>
            <a:ext cx="2909880" cy="22334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 rot="19860600">
            <a:off x="685800" y="3242880"/>
            <a:ext cx="2514600" cy="36147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 rot="2184000">
            <a:off x="5866920" y="3504960"/>
            <a:ext cx="2979720" cy="26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 rot="20124600">
            <a:off x="-228600" y="-228240"/>
            <a:ext cx="2340000" cy="27432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 rot="1301400">
            <a:off x="6248160" y="380880"/>
            <a:ext cx="2514600" cy="22100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 rot="19048200">
            <a:off x="604800" y="4130280"/>
            <a:ext cx="1981080" cy="22273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9"/>
          <a:stretch/>
        </p:blipFill>
        <p:spPr>
          <a:xfrm rot="1983000">
            <a:off x="6229080" y="4044960"/>
            <a:ext cx="1909800" cy="193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3T18:53:03Z</dcterms:created>
  <dc:creator> </dc:creator>
  <dc:description/>
  <dc:language>en-US</dc:language>
  <cp:lastModifiedBy> </cp:lastModifiedBy>
  <dcterms:modified xsi:type="dcterms:W3CDTF">2010-02-05T18:56:16Z</dcterms:modified>
  <cp:revision>3</cp:revision>
  <dc:subject/>
  <dc:title>Slide 1</dc:title>
</cp:coreProperties>
</file>